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B89F-37FC-4C34-9AC7-0884B13037B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50920" y="698400"/>
            <a:ext cx="4653000" cy="3490920"/>
          </a:xfrm>
          <a:prstGeom prst="rect">
            <a:avLst/>
          </a:prstGeom>
          <a:ln w="0">
            <a:noFill/>
          </a:ln>
        </p:spPr>
      </p:sp>
      <p:sp>
        <p:nvSpPr>
          <p:cNvPr id="168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A8C1-1C63-43BA-B003-507668B53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50920" y="698400"/>
            <a:ext cx="4653000" cy="3490920"/>
          </a:xfrm>
          <a:prstGeom prst="rect">
            <a:avLst/>
          </a:prstGeom>
          <a:ln w="0">
            <a:noFill/>
          </a:ln>
        </p:spPr>
      </p:sp>
      <p:sp>
        <p:nvSpPr>
          <p:cNvPr id="16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ACE0-B47C-4B59-8980-D22C4035B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17F7-37AF-489F-B887-F98AFB985B2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01"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3921-91C8-4E37-AF9A-8FB15826E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2" name="PlaceHolder 1"/>
          <p:cNvSpPr>
            <a:spLocks noGrp="1"/>
          </p:cNvSpPr>
          <p:nvPr>
            <p:ph type="sldImg"/>
          </p:nvPr>
        </p:nvSpPr>
        <p:spPr>
          <a:xfrm>
            <a:off x="1150920" y="698400"/>
            <a:ext cx="4653000" cy="3490920"/>
          </a:xfrm>
          <a:prstGeom prst="rect">
            <a:avLst/>
          </a:prstGeom>
          <a:ln w="0">
            <a:noFill/>
          </a:ln>
        </p:spPr>
      </p:sp>
      <p:sp>
        <p:nvSpPr>
          <p:cNvPr id="170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69EE-B8B1-4F1B-8DAF-3ACD0276672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1150920" y="698400"/>
            <a:ext cx="4653000" cy="3490920"/>
          </a:xfrm>
          <a:prstGeom prst="rect">
            <a:avLst/>
          </a:prstGeom>
          <a:ln w="0">
            <a:noFill/>
          </a:ln>
        </p:spPr>
      </p:sp>
      <p:sp>
        <p:nvSpPr>
          <p:cNvPr id="170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50920" y="698400"/>
            <a:ext cx="4653000" cy="3490920"/>
          </a:xfrm>
          <a:prstGeom prst="rect">
            <a:avLst/>
          </a:prstGeom>
          <a:ln w="0">
            <a:noFill/>
          </a:ln>
        </p:spPr>
      </p:sp>
      <p:sp>
        <p:nvSpPr>
          <p:cNvPr id="170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D0BF-EC1A-4BA4-9358-AC9963040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50920" y="698400"/>
            <a:ext cx="4653000" cy="3490920"/>
          </a:xfrm>
          <a:prstGeom prst="rect">
            <a:avLst/>
          </a:prstGeom>
          <a:ln w="0">
            <a:noFill/>
          </a:ln>
        </p:spPr>
      </p:sp>
      <p:sp>
        <p:nvSpPr>
          <p:cNvPr id="171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8AF3-B0A2-4E34-A3EE-12F87D8D1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50920" y="698400"/>
            <a:ext cx="4653000" cy="3490920"/>
          </a:xfrm>
          <a:prstGeom prst="rect">
            <a:avLst/>
          </a:prstGeom>
          <a:ln w="0">
            <a:noFill/>
          </a:ln>
        </p:spPr>
      </p:sp>
      <p:sp>
        <p:nvSpPr>
          <p:cNvPr id="171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0FF1-A701-46AC-A9A7-7762EB4C3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50920" y="698400"/>
            <a:ext cx="4653000" cy="3490920"/>
          </a:xfrm>
          <a:prstGeom prst="rect">
            <a:avLst/>
          </a:prstGeom>
          <a:ln w="0">
            <a:noFill/>
          </a:ln>
        </p:spPr>
      </p:sp>
      <p:sp>
        <p:nvSpPr>
          <p:cNvPr id="171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F560-FB24-43CC-AC94-584355912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50920" y="698400"/>
            <a:ext cx="4653000" cy="3490920"/>
          </a:xfrm>
          <a:prstGeom prst="rect">
            <a:avLst/>
          </a:prstGeom>
          <a:ln w="0">
            <a:noFill/>
          </a:ln>
        </p:spPr>
      </p:sp>
      <p:sp>
        <p:nvSpPr>
          <p:cNvPr id="172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7D58-8973-4C53-8B25-29D6FB8C6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50920" y="698400"/>
            <a:ext cx="4653000" cy="3490920"/>
          </a:xfrm>
          <a:prstGeom prst="rect">
            <a:avLst/>
          </a:prstGeom>
          <a:ln w="0">
            <a:noFill/>
          </a:ln>
        </p:spPr>
      </p:sp>
      <p:sp>
        <p:nvSpPr>
          <p:cNvPr id="172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E1E7-A351-4C2A-9E8F-66AF00B29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50920" y="698400"/>
            <a:ext cx="4653000" cy="3490920"/>
          </a:xfrm>
          <a:prstGeom prst="rect">
            <a:avLst/>
          </a:prstGeom>
          <a:ln w="0">
            <a:noFill/>
          </a:ln>
        </p:spPr>
      </p:sp>
      <p:sp>
        <p:nvSpPr>
          <p:cNvPr id="172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CFA5-B982-4A03-8F56-A4672C864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50920" y="698400"/>
            <a:ext cx="4653000" cy="3490920"/>
          </a:xfrm>
          <a:prstGeom prst="rect">
            <a:avLst/>
          </a:prstGeom>
          <a:ln w="0">
            <a:noFill/>
          </a:ln>
        </p:spPr>
      </p:sp>
      <p:sp>
        <p:nvSpPr>
          <p:cNvPr id="17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C519-2EED-4B9A-885F-D2C8D7EC6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50920" y="698400"/>
            <a:ext cx="4653000" cy="3490920"/>
          </a:xfrm>
          <a:prstGeom prst="rect">
            <a:avLst/>
          </a:prstGeom>
          <a:ln w="0">
            <a:noFill/>
          </a:ln>
        </p:spPr>
      </p:sp>
      <p:sp>
        <p:nvSpPr>
          <p:cNvPr id="168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7C0F-72F9-44CE-82E1-1142A35A6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50920" y="698400"/>
            <a:ext cx="4653000" cy="3490920"/>
          </a:xfrm>
          <a:prstGeom prst="rect">
            <a:avLst/>
          </a:prstGeom>
          <a:ln w="0">
            <a:noFill/>
          </a:ln>
        </p:spPr>
      </p:sp>
      <p:sp>
        <p:nvSpPr>
          <p:cNvPr id="168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FF44-649E-4124-9E12-0C68BBAC3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50920" y="698400"/>
            <a:ext cx="4653000" cy="3490920"/>
          </a:xfrm>
          <a:prstGeom prst="rect">
            <a:avLst/>
          </a:prstGeom>
          <a:ln w="0">
            <a:noFill/>
          </a:ln>
        </p:spPr>
      </p:sp>
      <p:sp>
        <p:nvSpPr>
          <p:cNvPr id="168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B132-3A86-47D9-9605-64C1A78A5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50920" y="698400"/>
            <a:ext cx="4653000" cy="3490920"/>
          </a:xfrm>
          <a:prstGeom prst="rect">
            <a:avLst/>
          </a:prstGeom>
          <a:ln w="0">
            <a:noFill/>
          </a:ln>
        </p:spPr>
      </p:sp>
      <p:sp>
        <p:nvSpPr>
          <p:cNvPr id="16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E167-E1DC-4BBE-A5F0-2D310E8E77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50920" y="698400"/>
            <a:ext cx="4653000" cy="3490920"/>
          </a:xfrm>
          <a:prstGeom prst="rect">
            <a:avLst/>
          </a:prstGeom>
          <a:ln w="0">
            <a:noFill/>
          </a:ln>
        </p:spPr>
      </p:sp>
      <p:sp>
        <p:nvSpPr>
          <p:cNvPr id="16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35A2-DD0B-4143-A716-E8D9476B4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6264-9803-4BB8-8A86-B2793D44E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4728C-1973-47F7-93DA-646D0A912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B50F88A-502C-4B63-939A-FF3A74619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6A1EC40-14FE-47B4-AA0F-40D4C3A7B5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4D36941-89DD-4DB5-BF1A-9CDC596EB1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F5F58C7-6921-40AE-BED4-E7AEFA0033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F62192B-9A9A-41D0-89FB-CADD2A4A5F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014FAB0-CED2-460B-9C84-E4C1A5F25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2BB33D1-FFAF-47B3-908B-395D00B99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FEFFEF5-54C5-45F3-8029-7550E8C61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0E835DF-0BE8-48EA-9A8B-BD6EF91DD04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EFE8FA8-92D5-4C9F-8823-95E708D8FD5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C1CFF-8C73-4069-A064-4EE7F600E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C9E6805-2756-41D7-A44B-DF4E761E07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A84EEB7-CB4E-4056-92BB-C08C341D19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94E0592-AB67-44A7-B3F6-38F9C170A8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8569CA01-8F1E-4B3E-846B-80BBC093BB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A0E092DD-8023-4960-B555-78DF28EED5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1DFB9B3-722C-4089-B2ED-97B138E9B1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C484C86-0D9A-48C0-8160-FC04A2DFDD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D72D6AA-69B0-4253-8CD9-54EBAB10FC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2368345-F63E-4176-AE55-294E3C95AA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2E9D5BC-72A8-4484-86C4-768038BAFF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33E66-C676-4BF7-BEF5-3DE9DA67E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BE2AB1EE-3EA8-412C-87AF-31FAFDB1AB7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B89A995-D289-4C85-98A1-7F0D439975A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C53C951-B988-4373-840C-23121DD19A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01B525-9F16-461A-91C5-70A804817B3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C50697-F8CE-44DA-A904-CAA5DC5DF2F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6799A99-9B7D-42CB-BE38-4281EAB686B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CC16816-B33B-4874-A56E-6B32FA77682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C683654-1372-45FD-BE46-B155B07AE18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31F9A3C-4A33-40E2-8854-2C3B8A9124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13B98D8-8136-4433-AD6F-888C98CDEC9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91CF4-E50D-485F-966B-420BFC33C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1759AB8-F47F-4824-8CF1-3E3DCCC24B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28B1D31-37DF-4B26-8527-715A89A823B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9FFC895-C7BD-4681-ABF6-284CF2DCEE3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D282FA9-DE1A-46B8-A949-772E3171A93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4A74FDC-C046-432A-8401-4B5E420BFA3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FBB6653-00AA-44D6-9487-DFCF07077B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02131A5-BC56-4886-9289-791FA19CFBF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21828D3-029D-4302-A821-DE7A1E316B3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F735E32-F39D-48EE-B129-B41F961BD3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A205AD0-7C30-43AB-A1A1-34800032A2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53112-EE53-47DE-8DFA-614B034D8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947671-4987-483E-A923-0D345E81D2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BDF9B8E-C30E-4767-842A-91703B2AA90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E91DF68-DAC0-4BBA-8E14-CC2803BC9A3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837D35F-882F-45DA-84A5-7048ABB0789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3E9BBB8-C058-4D29-889D-E26D85A04E0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477D7A0-3E01-43D6-AECF-97085BB0A5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BCA00D8-3BBC-4AEE-99DF-161087E0E7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F908C1C-0B2A-4A5F-BB0E-39991DDCF9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D85D0FA-2A91-471A-8691-BF60B31103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BBD5C39-EEB7-41E4-95BE-71D2F8C180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9F9B2-829E-47C0-9532-AA66ADA23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ABA83C8-98D9-4D78-830B-CD30609304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2079729-F961-4F86-AA94-1F25C934A4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A2D76A0-FEDF-4673-A98E-34608B34C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8A4CC43-1608-419B-A89C-941334B5E0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9A5D5D1-4E10-4AAC-97F9-5BBFEFD0A6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0322483-C782-4092-A3D1-43E992A13B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3F9FC1C-DB66-48A9-B7FF-BF6B139650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318A6B4-C313-4F43-B4E6-FA081C8582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27DD674-6D39-4833-8A12-042E83408D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AD571B2-8A49-4975-93F2-56AADD5DA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DF4EE-B2BD-4219-AB83-7F8EC232C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92E0259-9D4A-4FDA-8ADC-2C897856B6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12DA924-5803-4863-8613-0A78C22ADB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A74D3A1-BA9D-4C5A-9A45-DAF8A0EEA0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F17F320-0CD8-4FDD-A650-921B92BC11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DFCC00-8CD8-4540-8B1F-3DC22931BB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99156BC-563C-4D71-A238-BBE444634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81CB25D-948C-4D7B-80D2-D3696D57F8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A9333A4-780C-4068-9A21-83CA00D994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EBBCD3D-B69E-42CF-9069-6D449E5B99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E2C3367-990B-4ABC-AD73-915BF4B492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7EE5C-FF64-452A-9458-0BCCE43B3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583CD5E-CA20-4340-B709-DCCD7D18EA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459D4C1-72D7-4452-A599-35C061F501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5FCC41A-1DDD-446B-8B2C-7DEF3E92E8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051D44D-662F-4B35-9441-A4F35AB9D0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D3F73D8-207F-49A6-88B3-9611B95DA9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84F4532-30B0-447E-A854-A33369943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252CD7F-D9B1-4AC1-B5A7-32094A5A06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4994D4D-5EF3-4828-BF92-668C9B6A45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F98C5E7-88FB-47E7-BD24-F47A6E2989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54DFDC3-76AC-492F-866B-215E7C4D2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7FE6-FDA6-4E84-96C5-032C59D8D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5651039-1B18-4EB5-BF54-FBE5A23C01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1973BB8-E465-41F7-8E56-02ED9D0AB9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07C1950-15EC-4B02-B37C-70053FB76F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0D61625-363C-4114-9F32-97B141A809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A746E31-CE5C-478D-A680-DC5FAA1D07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E9316AB-E748-4D06-950B-25874FD320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E642C1C-50FB-46A9-9DA1-C7727078A3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A8E9C4C-0F60-46B9-B7A0-AEC86236F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377F0CE-EA6F-4315-853E-859E39E17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11DF00A-0929-47D1-8F2F-F0122D966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59868-574F-458A-8646-BFF1BB100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0130F87-DF10-48DF-BB10-3E8E68A8E0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B2889F5-FE7F-4EF6-B696-82302C4C70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73D5FEA-5B1D-4F35-8287-B941769F32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E5EF93F-5B27-4C27-88A3-E6BA89E005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1436682-8A12-4381-AD3F-6A0A708094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9E6D835-9E40-4CB8-A82C-A7980F6A76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EB6500F-CE46-4EE6-BFE3-FD74B578E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5983E3D-513F-4DC3-9CE1-30E58551A9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B584527-DD83-4C70-BD74-31F55B887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36B2B59-EA66-4499-A5E2-6786A9835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0A82A-5CF4-4B2B-B8D3-0EE441F0E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446D3-C9C0-42AC-A08A-8ECB1A3DC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2F3CD29-950B-4517-B425-80019E603B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331A96F-C92B-4544-9E29-4528CD4858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6E5BF61-7449-4AD9-A469-7D3D1EF5DD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92F901B-B954-41FD-BD06-B486C86B4A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5D43ECD-C3B6-41A2-908D-C2A45F6FCE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06693D8-9AFF-4604-A919-C2BACACE2E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B5E6F70-E089-4FE0-A377-7DB2D4C1B9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6EFCAF7-5B97-4051-B4BA-25D8968902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6D252E8-C3DB-4943-B063-80C50FB139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B9BFE51-B805-486C-AA0A-980D95D6A3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FD6FB-13E3-4887-B841-D04B03227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7C81D01-F0F8-4D7A-A1A6-11A0DB7717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7101D13-448B-41D1-BE78-EE1D54E90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3863820-4BAC-45D2-AE85-C70616103E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083B0AB-92B1-43CC-8EA5-83B7C41DB8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AA9A180-3943-490F-B416-2A71B2A0A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B527C7F-EF3D-462A-99BD-D67AFDCB33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90AB367-9045-44DB-A687-79CF693B33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5520A92-74BB-4846-AA53-D4E99F1F97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23838D0-3FB1-4442-B73B-061B5D56ED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B2DD931-12A4-4808-B79A-09B8E94DF9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E5F0A-8F39-4E09-868E-2F5399CE6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0C39346-6768-40EF-B861-3EDB8A556F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7482D31-9637-4C59-A44F-2E86BB06CE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BB58E1D-BE9F-48C5-A9BD-2CD601229C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4694766-BB9F-4C07-A827-146595626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5A43930-8153-4EE1-93AC-9062571414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E499304-DD5D-445E-AC6D-4FE3D123FA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D5B4C89-D9FD-40FB-B7FA-1473108F8D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6EF8698-FB8D-417D-9912-704C91A983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713095D-BAD2-478C-83F3-6C8B438D7A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9811BED-35A5-479F-A195-986FE53F42D0}"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7695A-262C-444F-9F8B-2EBE7B30F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0F6FB708-28AD-472D-B170-62784523211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DDA6D0CF-1A55-4103-9AEC-AA8D8FA754B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8B5214E5-AD72-45AD-84F0-B75710BB1EB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41CEA8AE-5D8F-43D5-842F-076B6B48A2A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48A714E8-B7B2-4CA2-BD69-6B3452AD0B5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DCB9A38D-4B74-4DFE-8E80-686A5DDBA3F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0FCE4647-36EE-4DC0-AE05-ADE55DF566C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7CF78B4-9EC5-4A9E-915B-A0C2B3EA581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D6EFF296-BF10-43FA-B06A-836B85D893D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7BA5AA34-0214-4165-BB24-B4E199EB0FA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B3F5F-8797-4EC9-9AEF-DE21E02AB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7BEA4DF1-45F1-432E-9A8B-1EA9E94A2F79}"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73D61F25-A9EA-4972-9AEE-2099B3D3E35C}"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93A9A804-181D-4116-9BC4-0A82D47A86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85E1A457-52F0-40D4-B0CE-40537008B4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64761DA-33C9-4355-9BE5-E65BBF4871E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DCF5BD60-E425-4AFB-885E-ABAC8B81EA7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319F2FE0-F73A-4692-9FD2-3BBC6696CB4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177E42A0-9C1D-43C4-94FB-70F4624953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2E8734E-D959-473D-B7F3-D79D599FB0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E1BAC9D2-774A-4ED3-B48F-B5F4873619E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BE837-C051-410F-8EA3-E593A4621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D03F634D-91ED-4D05-8814-E50E8612D1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83D45A39-04F2-48A6-AF84-1354A98F1F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9BAF8BA5-DBB3-4116-AF00-764EACB28C72}"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C956F42-B7B8-4054-9CF6-CA3255FF2399}"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5EA0AF4-65DC-44B5-9FB2-A5226E61D24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55777C3-AF2D-4BB0-BFF6-7425BC09BF4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54A7052-919B-42F8-A755-7B7C6C54645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87264B7-94A7-4E24-B60F-7B6FB3E2231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DA28F87-623C-4F12-8F2C-54CD69EB09D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7EA80D7-F835-4EBC-A5E7-C6651BC2FC4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D3D4B-86E8-4086-8952-93467749C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880ED58-D75C-45D2-A6B3-C1476EEFBC1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970063A-86AE-469B-BB19-D4807F3FD53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1B7EBE5-64B3-49DD-A06F-840A63285A1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E3155BFC-8CDE-4E58-862C-A7DF2ED622E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3415D9E-B3CA-4879-8935-4A522087E7F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6689DC5F-80FD-4B49-A0C5-FD85F21145E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7E5D569-6A07-4F2F-AFD5-123C05DCEC2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33B9628-B9B4-4558-9101-B58D66AD6EA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9A2F04F-FF56-43E7-9BE6-20EEC4DEAA6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7F39A5C-C067-43B3-9AC4-BB7733250F4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24D91-6F33-423E-AE66-96E1FE291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3A87019-B756-4391-AFA6-CD8D45B093F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BCD6E87-BB4F-45FC-9F99-EDECCC9D4B6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222FF83-F43D-4322-B565-B38AA5D4148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E033C73-9E10-4CA0-96CF-A59EBE7D1F8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3B4D95A-6922-4972-8050-6DB349C11E8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265F2D7-C273-4AAA-BFB9-9611C81A4A3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38FE3CD-C05F-4B47-B4FF-3904B055293E}"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5780168-F5FD-43B9-813D-249326F88E26}"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9E2C60C-6788-4097-BA8D-EE35D3DDDF4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AA7A493-617F-4F78-939C-2A0633D3EE6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96FA7-087E-4203-A5D4-CBF0DDFA7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4D5F54B-6C4D-49B4-85B1-C6ADA6BE8E4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F203812-4C86-473D-98FA-CCF0762B98C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BC5ACAB-9764-482F-8A81-1E624F60BEC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4E07F08-703F-4BAC-B35F-59764EB2908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32805B1-C527-4EFB-BBFE-94361B30C7DC}"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FAEA15D-9D53-46E5-B955-43517B27C2E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4B94486-1929-4CD8-8A71-DF6B34BA6D6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1EE7C52-9DC3-448F-AC3B-7519DF929C22}"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1849F672-3EF9-4F6C-9EB8-CA556093472F}"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B9E117B-3604-4E00-A454-CC322F43C8C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A162D-7B96-4434-A515-9EB889AB9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3C41576-2E07-47AD-9C3C-CBADBBCE8A7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363110B-650E-4024-980B-95879D198EC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D280F7B-E1A0-4B38-9C52-22211BA6CDC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B7F54D7-3F02-46EE-BE17-8FBC57B74DA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ACDDF85-2989-4286-AF53-7FEDB6CBE8B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6C87719-04C8-482E-B84A-439E7A4CD0D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BEFCE94-C0DD-4C86-985F-2A7F981F937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97E048F-8C96-4886-A65A-E2C11E12F4C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35B3107-EE35-41C8-B94E-672445B9D14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3C7D16DB-78AF-4A03-9E0F-0087CC6CCF02}"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5F508-8034-4DEF-B49C-CD921BF4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27076-C963-4F39-9D55-1232E234B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810CD073-A62D-4012-9536-CFCF9F2C230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97E21F4B-EC9B-4065-8815-BD130224BFE6}"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1072916-EDD6-4BA3-AADF-52CD37998F6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F99D701-A814-47D9-A51E-5F85465F26F8}"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A5EE999-1CD9-4D97-95D6-60B3145D26E4}"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5E53E83-A22E-4026-A87B-8C8C7922F69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B422158-6BA4-4E40-B786-708250E6BF32}"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49A4AD17-9705-48DE-88AB-0F948318F92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F0D31B7-4326-4B70-A660-15FA79261A6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23922E9-AC15-4C96-AE53-E8358465DEE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A9A98-9E25-4A3B-ADF9-B3E2BA771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EBA59F17-6409-4B84-B496-F4A3F53BE43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9DD1E9E-023E-41A0-87B7-CC014DB4E1F1}"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509B7B08-FF62-45EB-8F54-AB2F8B93C084}"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C89DCCF3-218F-4518-85AE-FFBA514388FC}"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5B01E1D-E8EF-42D2-856F-B86B4B3CFD9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F0E3A309-1608-45E2-A04C-9EE1E224A38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B9D1A84-8730-4C71-BBB9-6D9995A94E8A}"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C8599CFD-8F00-4C31-9265-23216BA354E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A689A39-903B-47FA-B8E2-7AAF91D8B75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DEEEE4B-9E7A-4E35-A271-272CBF124953}"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993A9-E4E5-4C38-B939-35FBA74A0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A520757-9133-4774-8521-0A7BD3ACC05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F4BA7EE-42FC-4EFE-B763-0D108493313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A426B649-42B2-4C32-BA5D-1FCE51896C4C}"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6CE15438-D5CE-432B-8292-1B3CC086E748}"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9F221273-0946-40C2-B19C-C1DAEFF8FC8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59AB46C8-1245-4F98-8ECB-8967A7A1AA7B}"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982E190-C6E1-4369-8695-7B5F6A4EC97E}"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72D93AF-C04C-4335-B309-2631880556AB}"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71BDC54-69CF-42C2-8FF2-7B45965D340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1B5DC38A-136B-44B5-8FB0-0D7A73864EF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906DF-AA87-4A26-8355-0A3A6C4A5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EA708AC1-D427-4A08-9A62-109E4563F4E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4F19B5B7-20B4-43FC-A2D7-1F542674D415}"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FD79626-2C16-4E07-AB0C-A19782F23701}"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489298CA-8314-4316-B448-217FC5925EE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2C1C3877-3D3C-4810-8CA7-D32683C29873}"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C65B2633-1160-4DEC-878B-A8AFD19D15B5}"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6425AF03-AC1F-46C0-9FDF-AC04E83F1CB2}"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73E160FE-A376-48B7-9DA0-735D3A903F9B}"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485C34F6-C445-4768-A00D-4F5E6EE98B6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EF751894-4086-4B89-8E58-F17D3721A04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A5023-BD5E-4072-9A35-84671CC1C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1C2F3171-8B12-447D-8117-E59E5EB47A12}"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3DA9DDF-4EF2-46BF-86CD-73C4EDB574EE}"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FD41086B-7CAE-4E46-A0DC-3D029B97B74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CFC59DD4-0CB9-46BF-A8F3-741A1E78E675}"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2F0EE1BE-0A1D-43BC-90C5-F3F5AD81633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0DFCCC25-73CA-4BA1-9FDF-17EA85BFDFA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F889EB77-077E-48FE-95B4-26C897D19EA8}"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07069711-1698-4698-8BE2-1CC3F12C90AB}"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B861A91B-D869-4B62-BE11-C279C2F08295}"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A7AC5282-DA0D-4133-A013-1ED652C6461B}"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602DB-4F4A-44D9-B3B4-0E701C128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3FD72EA-17A8-4BB5-A5C8-9E87B43F90F8}"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37C6E86E-52C7-4609-9FE5-F5E2043AD998}"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A3A20119-8017-4851-B5F4-9AEF40628B7E}"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B3D1722D-1375-43B4-B8BC-CC83EBA58908}"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FBD766DD-4CC5-4518-A19C-0F9960CCD1D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CDAC22C-25A3-4086-8C2B-EDA83ECEF765}"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E739A82-8A73-43A8-97D7-505116289AD5}"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4AA013B7-8621-4725-B1CA-07D0DE5B865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287F42AC-68A6-4559-85DE-8B571AE13852}"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A00AA458-6D59-4367-8AC8-6FF4BAC86A4F}"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BF81B-B9A0-4F24-BBE2-A839C04009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1AAE5FCD-233F-4586-81A5-B90FB89E20B1}"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41F6EC82-43FE-477E-A423-91A0E8CD1C6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CC531FB8-E0D7-4FF3-9ADA-BF73CCE0B7DD}"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CC5FB2C8-1779-4D1D-9753-46C6AA0B5D5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7A387B16-C25C-491D-84A2-4D67FD0FF7A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77BF032B-D8F4-4EC5-A3A9-8B597E2919F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A379536D-6955-4D4B-AE30-90FCD69ED7A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AB0A72C-08A5-4EF1-A869-340E171C909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F3ED81BE-C9F1-44BD-B258-AA3961BC21B4}"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6C6859F-854E-43CB-853F-32ABBC73CE6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46B91-314E-416D-A7B0-6496BB88F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18D159D3-D2A1-4F3D-85A5-1AE8AA2372F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06662E43-8836-4C73-84EC-DA08E5B6896B}"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2CFFA2A3-83A2-4831-BEBD-3A9C12D9F126}"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43782763-3F00-401A-A752-4E770099949E}"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F413FFAF-32DA-4705-8B70-4B064067D285}"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B26D4E13-84D7-41BA-A575-E74758475B1E}"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1BE8FF1-BDD5-49EE-94A3-EB4295A71EF8}"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00532823-623F-456A-8932-FE85D3303C67}"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195AC5E2-407C-47DD-8B52-0FEEDD7C1ED5}"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587F39F-7AAC-42D0-AD65-ACFDD442342F}"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338DE-4A3A-4600-A82A-C2773C4F2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0E44E4A-903D-4BCD-A867-8D082E3F93D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670C533-0281-44F9-A2E2-E3F87DE4C45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3015119-B3B6-4822-892C-43765998650A}"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D869A4B3-C19B-4851-9D07-4C31DA51DDF0}"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BDA642E3-26A7-4163-850B-7A64EC11FA97}"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C2161654-B514-4F32-949B-E008B4709615}"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6D6F9F5A-5DE9-4DEA-8505-8EC512965B2B}"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350D6EDA-FC6B-442A-957F-ABB4BE8DD24B}"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29831CA3-BB5F-44C9-B8BC-29CFE3562D9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4126A382-AD87-4446-A085-E44B7F4E3E2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448E7-E235-433B-9A89-3B835068F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5B166ED7-ACDE-4410-B90C-E1D1879C3CDB}"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6108B1B5-27D4-4EB8-A994-1FF475CCFF6C}"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5C5178F-816A-42DC-BBA4-20DE7368B52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B63E2A9-76C7-41E1-ADFC-1F556EF06435}"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D9F0180F-48FA-4DCA-B4A8-796D8BA75A67}"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9E31CF8B-A097-4502-9F38-A03A8AA588C2}"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52502174-C053-44AE-BCED-8E1B7F5265EB}"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283D9CF4-FCE8-41C4-9F37-13AFB10D8162}"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6F68ACFD-EECC-406E-9FAA-13C491474A59}"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53A9B0A3-D154-4B64-BAC8-516B0DC7B967}"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C4F39-CCBE-4962-94B6-2131329A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03E09-8CAB-4815-B256-B2FA5C963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AFA9B543-2E64-41A5-B487-AF112CBA5261}"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D04DB05E-DE89-4823-9696-8086C190DE7E}"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3D5CCF94-6609-4EB2-8624-C3CE9E93B224}"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69A8C7B-59BE-4496-962C-EF1904610A08}"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A0CB5DC-B712-4D17-A958-49F8C4D50C5B}"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157043E-EA91-48BF-9F8E-77C6721F983C}"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3699A1AF-2108-4ABA-99A2-6FF8A5606AE1}"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F87C4CB4-C802-424E-BA3F-A7635ED2B2F1}"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06AC7D1A-C578-4E2E-BD68-27D8AC9781B9}"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C6BE2E8B-A7DE-43AD-8390-CC9CCCEEF9DC}"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B4AFA-9375-4F17-A387-A01E2073A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4F20B668-20FA-4083-938C-5953682CF4AA}"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55194A5C-1A3D-437D-98C8-C194762ACAC3}"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9A389D1B-F513-4880-A784-644A5A6B354E}"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E6495790-3EB6-4F04-B74D-2B6D54BC6099}"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7F564486-70CF-438B-8DDC-A0FF4D27385C}"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DD5D6A8-0963-43D6-A091-D39006CF3372}"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34DAF23-744D-42F6-9732-031B45DA914E}"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511C48B-6A6B-4638-AB1B-6CAC61A54447}"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2A33E090-2A4F-404F-8D9C-A07A65756D80}"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6CB3FF7C-0514-4193-BB35-79446F6CE58B}"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DCC78-70B6-4E72-9419-6B5CAF4C7B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13B241C8-8944-492E-B20E-58835B8EB412}"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79E9237E-F38D-4352-A2D5-6C5C42139FDE}"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6B907CF-9B1E-4281-A990-4D9557862990}"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552BBFDF-1415-4AB0-B3ED-8D262000D254}"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15953CD2-9DFD-438F-989B-30332151FD44}"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FACCA88-C0EC-4F25-B15A-4F185633AFF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6B35396C-7D27-4633-90AC-A58045E5F809}"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5EB02CE8-3D6B-4813-9040-A38F7E445E2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043FDA3-D3FD-429B-BEDC-1D9661D7B4CE}"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C90024C4-F3DF-4283-A108-22FCE6A0D48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FF150-5753-4733-B84B-A8306405A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8A3E9A2D-C366-43DA-84A4-BE1B4CE0A21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64A72BF0-5A8A-4AB7-9A56-C2A28BB6208E}"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DB292A92-EA50-4DC1-95C1-7BEF468BEA4E}"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28AADF04-5969-4F50-8156-315F2946BD25}"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03344DE8-CF34-4EC4-8097-AE04DDA0ED53}"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71D516E-C6F1-45A1-947F-C52508DFA3FC}"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030383D3-8767-4D36-A014-F5565FC64E1A}"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0928E2A2-F6E7-45AA-A4C4-4EFDA1371F70}"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0F605C77-35AA-4457-BA1C-418BF4726EC3}"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A0EDC62-8D26-4D0A-93BB-07A9907F9B76}"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139BD-F619-4248-A5EF-6F16CEAB6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3E909F08-FC6C-445D-B620-F6115B9D8377}"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FA9DACF2-7937-41D0-8EA4-7C7CA47FF39B}"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EDB1E9EC-C5C1-4DD8-A369-B3DB6D73AB8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F1451D3D-8A21-46D0-98D6-6CD9F16DBD26}"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A48FCF01-7BE2-49BC-8208-627D5940C3C7}"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43725AA9-26C5-4512-9F3A-EEF0F1C4A18A}"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82EEA2C8-4E1B-4FC4-8021-ABB96C95F4F5}"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BAFBDE9C-8D2D-4B17-AB81-D737EFB48199}"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1CE4FBD2-FD26-4F5D-B3D8-E3DE5E52D76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38EA9164-42F1-41FA-9901-31A08672E647}"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06C15-250C-406A-B6D4-34324158F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D27DEB9D-8F37-4F4C-B3AF-87E000190235}"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014C0ED-17B2-419B-BC47-C077195FD217}"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8AEA633-8A49-44CA-988A-CAEB5684FA7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3E454966-5878-4F34-99AD-A8D0BBCE1282}"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9336DEC0-4C0B-49D4-826B-0F6314D11498}"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10549B9E-8D2A-43B8-ACA9-016A6B6E1231}"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2D928733-D3E3-467E-81C2-B3E4007BE74B}"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E2982FEC-986C-47F9-802B-1445210CC64D}"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E6FFDA44-D99F-4FDD-A315-8ADF76831809}"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C40D879D-BDDA-4135-880F-2D362E50D18F}"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9CDF0-4FFD-496E-BE6E-E70B2C91F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690E942-7A29-44ED-88FE-96A0199162F9}"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BDB44109-82EC-47A8-8C7C-26022996232F}"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A10B170E-0068-4548-80C5-3CE214049E8D}"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69B32234-04C5-4CCD-B4FD-D01E88734A70}"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816427FF-54AC-4529-816C-96FCD34917D5}"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1637624-D340-489A-B5C3-ECFBB569D108}"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A3D1B708-5D2A-4213-AB7F-9A1173513D58}"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C1379713-309D-4444-9368-6154E34A06C7}"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D4B406D9-A98D-4F4F-9884-5CB54E9E67CA}"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B117DADF-2748-40E3-AC55-FE89B7FFD1A6}"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23A58-6A58-4052-B9B5-200910A934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5CAC253F-5BE5-41AF-BD91-2B61A5264A69}"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B2D013F0-C316-4F9C-ABB9-D0BEBBFED58B}"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2D18340-F8CA-45E8-B8A8-B8E39F4918D3}"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5E9EB2D5-F542-4A55-8937-B266BEB04304}"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1732B06E-68FF-4288-B385-4EBD184340DF}"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136C1E4-76ED-4DD7-A23A-0D99DD5AB7A1}"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7EF8989A-E4DA-4520-B859-1E8C7753F67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0C3681B-0F6B-4357-9361-EB7E223785D0}"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3CDF3BAB-1B8F-465E-AED6-AE7C174F1B0D}"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58D5F5B1-26F9-4236-872F-6B43247C8C52}"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F88C26-6B39-4425-9D0A-9670C4D620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727044A2-863B-4803-8C6E-5DD1EE6DC8D2}"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F973-3388-416C-8955-16671ACB7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4F782-881B-4382-9F8C-FF3E376AA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9933-8653-4C9C-9F6F-104F7D9A5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F0C1B-D656-46E1-A945-2FA1648A56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CE76FA-F7FA-4742-B238-20D5887B3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75D66-4D37-4C4D-82B7-984BE2338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5D775-F92C-4322-9F21-A402B1FE4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809513-B800-4ADC-B2E4-A801C1BBEA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4D54E-F2CF-4038-A813-F995B33F2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A50AA-0336-4063-890C-D4DB47963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D6E3-A19E-4E48-851E-8783811F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7D452-DCEB-450B-B6CA-70CA39E771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F1F4A-4FBE-48EE-9499-CD9F34D9B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D308B-7B8E-4A3C-9D9B-72123E445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9E7F7E-46EA-499F-9FF9-23D052592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E91F61-EF3A-41AB-9E4F-2DE8CE2FD3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46DB02-2D36-4A98-AFF5-7A0C9A36D7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44A2B-FA57-462F-A6D5-95F51EFF5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C9BA3-75FE-408B-A974-4FD573EF6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74343-2C99-4CEF-8AA7-AF49968A1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1084BF-DEDB-430F-8A1B-1CFB9F0769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86307-3948-4F0B-ABFE-6C044398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0D398-B14B-490C-839D-53D209F68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280AD-A6C4-4992-98F7-F3BD0AD0F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D5364-D684-4F98-9455-A8F3CFD56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3BC30-9F62-46B1-B762-14EFFBD93A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38592-4BEC-4F45-BA50-108D4432B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2C501-3471-417A-90D5-176FF35BF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A338C-594A-4D5F-9AC6-FCB0528AA4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E4A3FF3-C415-4FF5-84A4-647D41DFC6E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84FD651-1496-4CA3-B9E5-EFAFBB60B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E5B5BCF-7AB8-4943-B213-EAF5455ADDB2}"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0454-92D6-4999-9054-374FE08A4C00}"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0D3D-8AAE-408E-BF1C-076C9D1FDF8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1BBC-38A3-4832-A631-A2333DDA081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BB67-04BB-4E10-BAAF-0652174EE06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EC9C-A717-4B39-A501-FB8BF6F4C5A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C8DA-27E8-4137-BF7C-796F3B7FF38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1171-DEEF-41C1-A729-3F8F07EE126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BF10-CF15-4D77-B391-EBC411659BC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B19B-0C79-4922-83B5-E5725A4316E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E8DA-2753-4A2C-B83F-924D4C98EB8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7AB0-F55D-4F00-ABEF-EC2167040D18}"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938E-1A20-4F43-AD8E-17D7D86DDEFA}"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2EC8-02F0-4C76-B338-75DB5F777E37}"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C355-BE46-475D-9436-42FA71BEC0A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8AFC-A954-48F5-9C08-EFA613F2BF0E}"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B69A-2338-4103-A8AA-CE6174E3E62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E803-C52A-4BE8-BEB4-8D6FD64170B6}"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8076-4417-4B6E-81F6-05F9FA23B52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B534-4DF8-4FE7-A98D-4B508048AEE9}"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CE0F-5E47-41BF-83F6-56F7E99C5A0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93E7-3CF3-4C01-A6CC-F91019682D70}"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EFE7-F49A-4D56-B140-04C2ED6E8AB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0537-DF9B-4DB7-B05A-034D437DBF3E}"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71F1-1F05-43FE-B723-660FDFF4EED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8FC5-981A-4D1E-80EC-BDAFE3CBDE78}"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62F5-2077-4B54-ACE7-1923E1F523C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5DDF-253D-435C-987A-ADB3772E4C9D}"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B244-AE68-479F-A68C-B46773EEA8A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B064-4DF2-4EC7-B22C-63C96718978D}"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2CA1-0D36-4A9D-8D3A-F7561FAEBC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5032-6519-4FC1-9B0B-C233FAF89BD6}"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0A0A-92BF-492E-9534-F69FC8B23E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8E5B-2D3E-4375-9653-DA3DB5A9F4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2091-5557-4171-8DDC-BE23780970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D155-DCF0-4FED-A4AA-76C7DB3115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8BE3-306F-43AC-8DD3-540C9778694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0326-5BC8-4361-B61C-8172EACA12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A07C-AC45-4A00-B072-6F65A7CBCD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158E-1BAE-42F0-B3D9-03B0B139CE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883B-22CB-4C8C-8D9A-888E1E85F93E}"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E5DB-87D1-4B2B-BD46-09440F3A7F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9011-FF29-4FDC-800B-BD67151550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5954-809B-450B-A1AB-7F23D6DCA9A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3ABF-1476-44B4-8D55-53215CD933D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0" name="Picture 2" descr=""/>
          <p:cNvPicPr/>
          <p:nvPr/>
        </p:nvPicPr>
        <p:blipFill>
          <a:blip r:embed="rId1"/>
          <a:stretch/>
        </p:blipFill>
        <p:spPr>
          <a:xfrm>
            <a:off x="0" y="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A4D8-E835-4861-80CD-7A09C32FBAE3}"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32"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33"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34"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39"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40"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41"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43"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44"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645"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646"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47"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48"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49"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50"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51"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49"/>
                                        </p:tgtEl>
                                        <p:attrNameLst>
                                          <p:attrName>style.visibility</p:attrName>
                                        </p:attrNameLst>
                                      </p:cBhvr>
                                      <p:to>
                                        <p:strVal val="visible"/>
                                      </p:to>
                                    </p:set>
                                    <p:anim calcmode="lin" valueType="num">
                                      <p:cBhvr additive="base">
                                        <p:cTn id="7" dur="500" fill="hold"/>
                                        <p:tgtEl>
                                          <p:spTgt spid="1649"/>
                                        </p:tgtEl>
                                        <p:attrNameLst>
                                          <p:attrName>ppt_x</p:attrName>
                                        </p:attrNameLst>
                                      </p:cBhvr>
                                      <p:tavLst>
                                        <p:tav tm="0">
                                          <p:val>
                                            <p:strVal val="#ppt_x"/>
                                          </p:val>
                                        </p:tav>
                                        <p:tav tm="100000">
                                          <p:val>
                                            <p:strVal val="#ppt_x"/>
                                          </p:val>
                                        </p:tav>
                                      </p:tavLst>
                                    </p:anim>
                                    <p:anim calcmode="lin" valueType="num">
                                      <p:cBhvr additive="base">
                                        <p:cTn id="8" dur="500" fill="hold"/>
                                        <p:tgtEl>
                                          <p:spTgt spid="16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50"/>
                                        </p:tgtEl>
                                        <p:attrNameLst>
                                          <p:attrName>style.visibility</p:attrName>
                                        </p:attrNameLst>
                                      </p:cBhvr>
                                      <p:to>
                                        <p:strVal val="visible"/>
                                      </p:to>
                                    </p:set>
                                    <p:anim calcmode="lin" valueType="num">
                                      <p:cBhvr additive="base">
                                        <p:cTn id="13" dur="500" fill="hold"/>
                                        <p:tgtEl>
                                          <p:spTgt spid="1650"/>
                                        </p:tgtEl>
                                        <p:attrNameLst>
                                          <p:attrName>ppt_x</p:attrName>
                                        </p:attrNameLst>
                                      </p:cBhvr>
                                      <p:tavLst>
                                        <p:tav tm="0">
                                          <p:val>
                                            <p:strVal val="#ppt_x"/>
                                          </p:val>
                                        </p:tav>
                                        <p:tav tm="100000">
                                          <p:val>
                                            <p:strVal val="#ppt_x"/>
                                          </p:val>
                                        </p:tav>
                                      </p:tavLst>
                                    </p:anim>
                                    <p:anim calcmode="lin" valueType="num">
                                      <p:cBhvr additive="base">
                                        <p:cTn id="14" dur="500" fill="hold"/>
                                        <p:tgtEl>
                                          <p:spTgt spid="16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48"/>
                                        </p:tgtEl>
                                        <p:attrNameLst>
                                          <p:attrName>style.visibility</p:attrName>
                                        </p:attrNameLst>
                                      </p:cBhvr>
                                      <p:to>
                                        <p:strVal val="visible"/>
                                      </p:to>
                                    </p:set>
                                    <p:anim calcmode="lin" valueType="num">
                                      <p:cBhvr additive="base">
                                        <p:cTn id="19" dur="500" fill="hold"/>
                                        <p:tgtEl>
                                          <p:spTgt spid="1648"/>
                                        </p:tgtEl>
                                        <p:attrNameLst>
                                          <p:attrName>ppt_x</p:attrName>
                                        </p:attrNameLst>
                                      </p:cBhvr>
                                      <p:tavLst>
                                        <p:tav tm="0">
                                          <p:val>
                                            <p:strVal val="#ppt_x"/>
                                          </p:val>
                                        </p:tav>
                                        <p:tav tm="100000">
                                          <p:val>
                                            <p:strVal val="#ppt_x"/>
                                          </p:val>
                                        </p:tav>
                                      </p:tavLst>
                                    </p:anim>
                                    <p:anim calcmode="lin" valueType="num">
                                      <p:cBhvr additive="base">
                                        <p:cTn id="20" dur="500" fill="hold"/>
                                        <p:tgtEl>
                                          <p:spTgt spid="164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47"/>
                                        </p:tgtEl>
                                        <p:attrNameLst>
                                          <p:attrName>style.visibility</p:attrName>
                                        </p:attrNameLst>
                                      </p:cBhvr>
                                      <p:to>
                                        <p:strVal val="visible"/>
                                      </p:to>
                                    </p:set>
                                    <p:anim calcmode="lin" valueType="num">
                                      <p:cBhvr additive="base">
                                        <p:cTn id="25" dur="500" fill="hold"/>
                                        <p:tgtEl>
                                          <p:spTgt spid="1647"/>
                                        </p:tgtEl>
                                        <p:attrNameLst>
                                          <p:attrName>ppt_x</p:attrName>
                                        </p:attrNameLst>
                                      </p:cBhvr>
                                      <p:tavLst>
                                        <p:tav tm="0">
                                          <p:val>
                                            <p:strVal val="#ppt_x"/>
                                          </p:val>
                                        </p:tav>
                                        <p:tav tm="100000">
                                          <p:val>
                                            <p:strVal val="#ppt_x"/>
                                          </p:val>
                                        </p:tav>
                                      </p:tavLst>
                                    </p:anim>
                                    <p:anim calcmode="lin" valueType="num">
                                      <p:cBhvr additive="base">
                                        <p:cTn id="26" dur="500" fill="hold"/>
                                        <p:tgtEl>
                                          <p:spTgt spid="164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51"/>
                                        </p:tgtEl>
                                        <p:attrNameLst>
                                          <p:attrName>style.visibility</p:attrName>
                                        </p:attrNameLst>
                                      </p:cBhvr>
                                      <p:to>
                                        <p:strVal val="visible"/>
                                      </p:to>
                                    </p:set>
                                    <p:anim calcmode="lin" valueType="num">
                                      <p:cBhvr additive="base">
                                        <p:cTn id="31" dur="500" fill="hold"/>
                                        <p:tgtEl>
                                          <p:spTgt spid="1651"/>
                                        </p:tgtEl>
                                        <p:attrNameLst>
                                          <p:attrName>ppt_x</p:attrName>
                                        </p:attrNameLst>
                                      </p:cBhvr>
                                      <p:tavLst>
                                        <p:tav tm="0">
                                          <p:val>
                                            <p:strVal val="#ppt_x"/>
                                          </p:val>
                                        </p:tav>
                                        <p:tav tm="100000">
                                          <p:val>
                                            <p:strVal val="#ppt_x"/>
                                          </p:val>
                                        </p:tav>
                                      </p:tavLst>
                                    </p:anim>
                                    <p:anim calcmode="lin" valueType="num">
                                      <p:cBhvr additive="base">
                                        <p:cTn id="32" dur="500" fill="hold"/>
                                        <p:tgtEl>
                                          <p:spTgt spid="16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2" name="Content Placeholder 5" descr=""/>
          <p:cNvPicPr/>
          <p:nvPr/>
        </p:nvPicPr>
        <p:blipFill>
          <a:blip r:embed="rId1"/>
          <a:stretch/>
        </p:blipFill>
        <p:spPr>
          <a:xfrm>
            <a:off x="665280" y="1122480"/>
            <a:ext cx="7826400" cy="4913280"/>
          </a:xfrm>
          <a:prstGeom prst="rect">
            <a:avLst/>
          </a:prstGeom>
          <a:ln w="0">
            <a:noFill/>
          </a:ln>
        </p:spPr>
      </p:pic>
      <p:sp>
        <p:nvSpPr>
          <p:cNvPr id="165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8800-FA23-4881-A4F0-8D29CF76E78D}"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4"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55"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56"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57"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58"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5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5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5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660"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61"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663"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665" name=""/>
          <p:cNvSpPr txBox="1"/>
          <p:nvPr/>
        </p:nvSpPr>
        <p:spPr>
          <a:xfrm>
            <a:off x="304920" y="990720"/>
            <a:ext cx="8534160" cy="4830480"/>
          </a:xfrm>
          <a:prstGeom prst="rect">
            <a:avLst/>
          </a:prstGeom>
          <a:noFill/>
          <a:ln w="0">
            <a:noFill/>
          </a:ln>
        </p:spPr>
        <p:txBody>
          <a:bodyPr anchor="t">
            <a:normAutofit fontScale="92000"/>
          </a:bodyPr>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6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a short lesson that can be used to record The “Quick Vis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ignm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ateg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1"/>
          <p:cNvSpPr/>
          <p:nvPr/>
        </p:nvSpPr>
        <p:spPr>
          <a:xfrm>
            <a:off x="533520" y="304920"/>
            <a:ext cx="8001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This guide helps the observer to </a:t>
            </a:r>
            <a:r>
              <a:rPr b="1" lang="en-US" sz="2800" spc="-1" strike="noStrike">
                <a:solidFill>
                  <a:srgbClr val="ff0000"/>
                </a:solidFill>
                <a:latin typeface="Calibri"/>
              </a:rPr>
              <a:t>focus on students’ thinking, their ideas, understandings, misconceptions and their work during classroom observations.</a:t>
            </a: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 It also asks observers to look for what misconceptions students hold and where those misconceptions origin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67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1"/>
          <p:cNvSpPr/>
          <p:nvPr/>
        </p:nvSpPr>
        <p:spPr>
          <a:xfrm>
            <a:off x="457200" y="60948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r>
              <a:rPr b="0" lang="en-US" sz="2800" spc="-1" strike="noStrike">
                <a:solidFill>
                  <a:srgbClr val="000000"/>
                </a:solidFill>
                <a:latin typeface="Calibri"/>
              </a:rPr>
              <a:t>Do they effectively communicate and listen to each other and use each other as resources? Are all students involved and active in the tasks? When students seek authority over whether a solution is correct, do they rely on others, do they ask the teacher, or can they reason for themselves using their knowledge of the subject and logic? Are all students engaged and do they take risks and share? The observer should then use that information as the basis for discussion with the teacher during the post-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fore we begin, please go to:</a:t>
            </a:r>
            <a:endParaRPr b="0" lang="en-US" sz="4400" spc="-1" strike="noStrike">
              <a:solidFill>
                <a:srgbClr val="000000"/>
              </a:solidFill>
              <a:latin typeface="Calibri"/>
            </a:endParaRPr>
          </a:p>
        </p:txBody>
      </p:sp>
      <p:sp>
        <p:nvSpPr>
          <p:cNvPr id="1615"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tation</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2"/>
              </a:rPr>
              <a:t>https://mxweb3.media-x.com/home/ncval/demo/</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673"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3"/>
          <p:cNvSpPr/>
          <p:nvPr/>
        </p:nvSpPr>
        <p:spPr>
          <a:xfrm>
            <a:off x="609480" y="228600"/>
            <a:ext cx="7848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During the pre-conference the observer might work with the teacher to decide on which standard they should focus. The observer might want to show the coach the particular questions he or she will be focusing on during the classroom observation or the observer and teacher might use the questions as a guide to planning the lesson that will be observed.   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e with lesson and have principals record additional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m to talk around their table to see what common thing they recorded about the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the question:  “What did you observe that showed how students interact with each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7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 </a:t>
            </a:r>
            <a:r>
              <a:rPr b="1" lang="en-US" sz="4400" spc="-1" strike="noStrike">
                <a:solidFill>
                  <a:srgbClr val="ff0000"/>
                </a:solidFill>
                <a:latin typeface="Calibri"/>
              </a:rPr>
              <a:t>(change as needed)</a:t>
            </a:r>
            <a:endParaRPr b="0" lang="en-US" sz="4400" spc="-1" strike="noStrike">
              <a:solidFill>
                <a:srgbClr val="000000"/>
              </a:solidFill>
              <a:latin typeface="Calibri"/>
            </a:endParaRPr>
          </a:p>
        </p:txBody>
      </p:sp>
      <p:sp>
        <p:nvSpPr>
          <p:cNvPr id="1617"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8"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0" name=""/>
          <p:cNvGraphicFramePr/>
          <p:nvPr/>
        </p:nvGraphicFramePr>
        <p:xfrm>
          <a:off x="228600" y="1600200"/>
          <a:ext cx="8686800" cy="441972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Element 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Teachers lead in their classroom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83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5"/>
                          </a:solidFill>
                          <a:latin typeface="Calibri"/>
                          <a:ea typeface="Calibri"/>
                        </a:rPr>
                        <a:t>Develop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s assessment data available and refers to it to understand the skills and abilities of stud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Accesses data from district assessm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Has written classroom management plan available and poste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inks lessons to prior learnin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s college display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arifies that passing is necessary for graduatio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ssumes responsibility for student achievement/proficiency/growt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2"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Profici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b933"/>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4"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b933"/>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6" name=""/>
          <p:cNvGraphicFramePr/>
          <p:nvPr/>
        </p:nvGraphicFramePr>
        <p:xfrm>
          <a:off x="304920" y="1371600"/>
          <a:ext cx="8534160" cy="5048280"/>
        </p:xfrm>
        <a:graphic>
          <a:graphicData uri="http://schemas.openxmlformats.org/drawingml/2006/table">
            <a:tbl>
              <a:tblPr/>
              <a:tblGrid>
                <a:gridCol w="2349360"/>
                <a:gridCol w="61848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1-03T14:15:52Z</dcterms:modified>
  <cp:revision>90</cp:revision>
  <dc:subject/>
  <dc:title>RESA Implementation Sessions Day 2 Process</dc:title>
</cp:coreProperties>
</file>